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3B3-C806-4A76-815A-5364175C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935-809C-4E85-BC0C-7FD83159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96C41-4455-4975-95A3-2178FE92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BB3C5-2E86-4B15-93D9-AC1D5CF8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223B6-C60E-44F7-B669-24978BE1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F1F23-9316-4B21-8BE8-19BCD8F8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E55E0-B579-4B05-871D-D346A4B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2EAD5-536C-447B-A90E-CC01F47E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6793D-FCF2-4D4D-B724-4C7B1C57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30654-B36C-4B2E-ADB1-79C41416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C8852-4008-4259-84FA-D9C73EE6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08495-D3FC-4DF9-9D71-DBD084B1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FDB-C4B4-45FE-AF35-75826B89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2108A-8C06-47B2-80D8-2152A457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6AE7B-044E-4068-A240-5D52F9A5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39B12-B6EF-44AD-979C-1900D7B5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0FF9B-4E72-4C41-A6E3-FDFFB86D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3A578-CF23-493E-BF65-ECDED56E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8A4D3-E9CF-4F0F-85BE-F1E0A2F4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7E420-906A-4377-9231-A9469EA2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31352-2EC4-4659-957A-767DCE5D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3E620-5DA2-4D5E-990E-4136D94B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F93E2-171A-4D97-A5A0-273A5EB8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DAE-B179-4976-9EA8-DFFD5D26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BDF55-EE10-43AF-A55F-9A57288B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250E5-34D2-4FEE-B957-BAFC605C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F8A13-DAAF-47FD-83F8-BC26BA42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6284D-B7A7-4A95-8F2A-C055305F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97EC9-50CB-44FC-96DA-CE23E7A4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AD313-4FB4-419A-944D-FE39327B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4406E-D3D3-4256-BF41-B8DD4309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EDF64-B465-4FE5-930A-12BB965E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4872F-328B-4B89-99D4-35FA0CF4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012B9-6E6D-48ED-B131-4C0F437E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94C5-09DE-40C8-B070-4062D289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470B8-C84D-492E-BFF1-8DD1BE42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BE085-52A0-481F-969A-218CEA26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C9449-BA4D-453D-8378-7C130521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CFAA0-FC4D-4293-961D-CB4356AF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4F928-02EC-45E2-A82B-86292D22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E5009-7D0B-420B-84D1-FF1DFFF6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66F82-2D26-434A-91BF-415ED40F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8FB70-BA64-4068-B9A8-94C55846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5B32F-AC60-4094-89C4-5655D2C6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7EBF3-E931-4093-AAE8-370FE179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84A8-2841-43C3-ADD1-3946C955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ECD72-D970-44C0-8252-A13B1179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238A8-87DB-434E-8973-BFBEC3E6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BC469-BDF5-47C6-9177-DFC80040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1C7E9-9B7F-401B-93DE-3E784698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BD6A8-8932-467D-A32B-56BFCCDF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60C0E-A276-4940-82A4-4276FC1B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9E459-1D82-427E-B567-B07C4D54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D1A82-2846-4C94-8A5B-E9E1AECC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D9E2B-19DF-4CEF-A664-7AC0CA59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C3A2A-000E-47E1-AF31-B1BC9275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44BC-8D30-4AA0-97A9-9CAD14B1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475C3-4390-491C-BFE9-786AA867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E62A1-4B31-42FF-BD71-6C69493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22A67-5CEC-4187-B03B-7E48D1C0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256C0-67E4-4AAF-919E-E816DD3C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2BBD8-E969-410B-B1D8-3E32F2BC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4C2DA-F519-49FB-85B2-800A1592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DA5D8-A9CB-4B50-AF71-9663FDAC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272C4-5DC2-4D39-BEA7-0EDCED23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0F637-2197-4F7C-83FC-D95B7559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7EB9A-4A48-4BDC-A7D2-BA4CD0C4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942B-B490-4B7A-8BD5-6CFFF1A9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9C096-EA0E-4417-8248-99B3A03D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C7063-3DCA-429A-8EC5-A0BAEDCF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DACC3-4D2F-41B9-A881-C3223876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DA2A7-6F44-4D9F-9470-0346E9DD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8E2AB-0A40-4E7D-A31A-732CF3A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26342-22E3-4AC6-BC0D-33EC972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2479D-80DE-42E1-B8BC-81AACF88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9A3CF-BC2E-4A5A-B3FA-4D3DF6B1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342EE-3FB0-42A9-B40B-55694532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F0849-058E-411D-B478-B6BDCBE4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4493-6456-4A79-8481-21A617CE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AB221-2996-4558-96E0-3CCE6C2F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30505-2387-454F-A83A-86094273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19977-6228-4D06-B656-0E5F1F21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44923-3750-4365-BAA7-90AA40B4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165BC-60BE-4119-91FA-9960A039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4A07D-76B4-4EA5-B54D-38128269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AABB0-CB73-429B-BEB8-F1E4EB91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57E1A-B20B-4630-8C00-E20D94D8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A7C18-4D42-42E2-93F4-A0D72159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291FB-A5A3-49E5-96B2-32558FA9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B71F-C48C-4323-BA59-B1794932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066330-F3B1-4B8A-904B-D3F9CA19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A0EDC-4BB1-4B44-91F3-8B5B3B35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90040F-45D2-4E6D-B34B-779B8595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C3C9FF-F467-45A1-AB7D-4AA72EBC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C757C-CD1B-471E-84A6-2101C5A0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323FA-570B-4A92-BD7B-78D4231D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C57BC-D10F-4246-ACB1-08977A21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29BD4-5142-4C21-A06A-15B15219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1F39F-8DCC-409A-A453-420B1256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DC22C-DD88-413D-877A-EE5CB8BE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49FE-CA1B-4FB6-8CAC-BCD9ACED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0AD90-DE6C-495D-8390-BE4FCE5F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481A5-A5E8-48FA-802E-7A950BE2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486D6-F5B8-43D0-AB34-08822EF1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40751-8F44-41D6-B9AD-8DE272FA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EDEDD-A08C-45CE-9108-0193E8DA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ABCE1-146A-4C7A-AFDC-97736149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AE3348-BE07-4F9E-BC2F-F0168BF0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F5FB81-3909-4B34-96E4-EAD01DED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C959C-75C5-4F02-9E43-6CEEB28D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D6ABA-1271-4E8C-90B7-8F53280B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BFE-41AE-4E32-97CC-D1278FBA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9186-3927-4BEE-85C5-4AB71CA5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0E7C5-2C56-4012-B259-EED1EA7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87826-31D9-4F40-A05F-EC0355A3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1AF7B-8742-4543-8F34-BE0FE588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D3770-01BC-44F5-A548-9C576637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CB1AF-483B-4664-8068-7A98C609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436C66-1712-4863-8132-0ADC3CAA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3E277-CD5D-4976-A218-690BCB93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6AC159-E311-4B44-894F-72D49D21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5B93D-FBF1-4A31-8CC2-740DF50B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735DA-F910-4983-BDD3-79400CA8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8FEB-5C26-4EC1-ADF6-48FBE5D0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D6823-6EC6-4984-8B90-363C9E74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72A55-DECC-4CB0-8785-03E6A87E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C484FF-3AAF-49FF-BEF2-2C4F8A5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98807-F0F4-4FEF-A846-6BD6CE6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0C2F0-DDB6-4CD4-964D-87315A09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52A662-0C93-4951-BC6A-1FC3ED99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154B4-3639-4073-B5BA-6F9B5FF8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F323A3-33A0-4CD8-B48B-47041994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FEE67F-F26A-4940-8AE9-6FBD590D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05D97-6BAF-455E-B727-79B708AE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B8CA-F528-4313-B078-F001561D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889FB-43BF-4545-A8C9-50FC0198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A5BAC-6169-4CEB-AB3D-8A0B05E9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8F279-88CE-406A-AA62-4CAD5C3F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724990-B7EC-4731-A77A-588FF510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0132A-F326-4DAA-9287-2B18433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767D2-64C5-441D-9860-75148565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63766E-84A7-40AD-BBCA-605ECF3A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B628F-9832-43DE-B3B5-4CB09809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C9AF17-3C2B-45E0-A6CE-E24A7F33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020BC6-1EF4-46DD-B122-48077113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6219-0235-463E-ABC2-87E12C4E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1C3AB6-DEBC-4CBD-9919-ACD178DC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B900E-3B37-4895-9B18-791902F4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BC26D1-3B0B-428C-8CF8-7A31F374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17B38-89A5-47EA-91AC-B6190F27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388E9-2C58-4ADE-A528-FA6744A3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205CF0-EAA9-46A6-9251-9138F9D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A6B671-3EF6-4D7F-8DBB-6D695B44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0E968B-209F-4FE9-BAB7-981AD4C1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427181-C60A-477F-92C8-3611AE05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3B9B3-6F98-4638-BA47-F8F5DF6E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485A-21EC-47BE-BE17-1E6EC532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9EE7F6-192D-4953-B413-0468A41C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A79C8D-8571-4694-85B3-38873205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4D11B2-6F86-4210-AA71-6FAB7874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0A302-8D6F-4897-9B82-48BCCB23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46C073-BD97-4909-873D-CE829EF9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94801C-661D-4855-AD81-698ABF83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D23200-3A6A-4485-A601-AC4EAA1B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FA7DB-28CE-47F3-B470-B51E2213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3B467B-A0B6-4612-96D4-CF0DB53E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AE2607-CD50-4C98-B79E-92F82E97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9DB9E-43B8-495F-BEAE-35769A65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D766BD-290B-4674-9065-7F15292A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26A7D7-8A38-4725-81EA-9C9F52F6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5D1A03-484F-4CD5-9569-F86191DA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C729-90AC-4061-861E-1EC21777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6349-2BCB-48EA-B857-BCE8F553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FB04-9054-49B8-B8B2-435ABB02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A00E5-4BBD-4BC5-9648-C2A3C191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0BA-4926-4925-8604-B14D0F4C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33FB-667D-4D59-8C0D-3A275956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CAD8-5336-477F-8F94-5315E2DC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280A-5796-4391-A49D-C78092F2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A483-71B6-4CC8-B200-663AB396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1322-6105-4199-8895-2999A1F9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CCDB-DA1E-45D6-9E0D-BEDC8ABA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3053-BEB0-4BCF-B285-123453A5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447A2-C1BE-496D-B9BB-D050878F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91B3-C2FA-4DB8-9505-4B6D717E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D3932-EA3A-4281-ACAA-4954A9E7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A71-EDB3-4102-BF40-E0246DD4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FE8F-425A-4C68-A637-8FD8CF7C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655A0-9E50-4D67-AF24-F435DBAF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2D63-7BB5-4EF5-978D-5C9D91BE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AB42-BCE8-45F3-8905-48875FCD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46A4-A5D1-4338-A317-B5BC88AB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99BCE-0F8F-410E-80B1-211AF0E7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9EB1-968D-43B6-A191-2AEC7997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BB727-4335-4B2B-BC9B-E41E0378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8C697-10DB-439A-A4FF-6E0001DB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85DFA-DFA9-41B4-9F64-38B543A8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2B5-414E-4A75-9F3C-9491E6DC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0DDEB-8BC5-42AA-B347-11AB9BC9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46A9F-787D-47CA-A6C5-3E01E972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EC458-1D3C-4C92-A244-4118251D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E736-DC80-46C6-9B8E-0C849539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65631-DBED-4C12-9AD9-1A36E84C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24AEB-5615-4592-8AE9-CC2AD17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78A1-7E4E-4E68-8148-16D72711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1188-C2F3-4660-BA31-E08C1349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68FF-29E2-44AF-9D6E-C76A89C4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378FA-398C-4DBD-BF35-015060AE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31B-2973-4F2E-A586-8058E2D7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0CCAB-4AD1-46A8-B9B2-2011995E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40ABA-91F1-432A-8CF8-0FDC5FD9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9BE1-8982-4EF9-8243-AF59F979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D7C4-8EC8-4049-9F4E-1DD98809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1B789-2A6E-4397-99FD-FCF95C4E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2104F-7492-40A7-A81B-0555C328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6A555-F40B-4D11-9A3E-D8DE1794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6E2CF-330D-41B0-9055-BFC4B45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B8516-6A0E-4178-919D-F5622B21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ABD48-B50D-479B-9FFF-5489F4AE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CF5-FB13-4E06-873F-CDF022DD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BAE8B-AC5C-42D9-BD27-5D92CB19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9D21E-CC34-4DC7-AB85-90C0BF1D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76228-DD4C-44AE-A694-9145D12A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27F3D-2626-4CEA-AEC1-C5933964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E0470-ABCF-4559-ACBB-AE18AC42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219FB-554E-40A4-ACE6-49DA89B9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20D32-0F46-473D-82F4-ED1FE538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FF310-A6B4-40D8-84CE-0CD033FA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08365-752B-4D6E-AB9D-3BB8B585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2DC5F-BA03-400B-8858-B22DAC57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7B0-7445-4DDE-97CB-CB47955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47C29-BFBA-4889-9A28-AF854B58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F7237-3E3E-4CC6-8B95-CF29C65E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02D37-3A5D-453B-AD03-8478D4C8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0D55-3764-4E1F-8CB5-FE213E8C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F5976-C67D-406E-9798-F35F3F7F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683D9-3928-4E88-B321-C9972FE0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1A16C-FBD4-4BAA-A94A-400DB652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8EB72-8C8B-4A94-A437-48A59452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7147B-91BE-45AB-9F52-6466914A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FD57B-C15A-48EF-9FCA-5104C036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0C5-0B5E-47E1-8F33-DEBBFF7C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BBFE9-84CD-47C3-9E34-40FB12FC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0F8C9-7AF8-49D4-AC75-C96080C5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DF3E3-95C0-4770-A198-8CF9873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430D8-AFD3-4641-A835-BE5EB62A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E8A42-A932-4939-9EB3-A856F167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FFF14-DA3D-4C9B-9E09-B375A6E0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594A9-BA14-4800-9FAE-92223561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9E4C5-4350-4D7C-87A7-7707DDF5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1C1DB-BD2A-4059-B6E4-02096808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CD836-6D24-4C15-B7E6-94E75130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D21F-170C-4A4E-A7A7-0D30213887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1153-17CC-48AA-BB62-DAAA1620C1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5286-CEB4-4046-A16D-C92EAA24AF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CE10-4F77-417A-BC26-A9CDC001C6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973D-AF35-493D-9B0F-054B474343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4C64-E1D0-4D51-8F20-9B36996AB6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1D68-9404-4075-BD89-1AD2E2682B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6691-096F-40B6-9F31-BF3FE6A7BD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FCBD-0268-4F9F-9E6B-21C62C49B7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C5BC-EB63-4EB5-835E-ACCC780919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74F4-21B8-4EE3-B515-A319C0498B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A33B-8DA3-40AC-ADBE-790AA0639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784C-1492-4661-B558-3A84F6C83C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F7E2-1648-49B8-9C6B-C42CFB00E4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2CD0-4114-4696-9AF9-231CED117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355D-338C-4B41-BBD7-C8BB26EB5D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E9D2-1E2E-473C-B2F0-557CD2E1F1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5D6F-A938-423A-BA12-F4677CB8E4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2510-8005-48CA-8053-F66F8C4507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AA87-3B20-4AF7-954B-852599B602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544D-9AFF-4726-BF4B-6C6DCA974A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12C9-C565-45D6-BA69-B60B20C4B1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572B-CD60-4740-B465-4249767145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89D0-0732-47C8-9875-EA32B2A624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C48C-150C-4246-87F1-F939426645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5A3B-1904-4C0A-8B88-2826238C2D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8BC4-37EA-4FCD-ABB2-3D2B17E72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D755-3200-496D-A503-2F27B169A8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661C-7BE3-43AC-90BD-548802B07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40FE-F4A7-4BDF-BF94-CBD977E25F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2A83-3DD2-4984-B422-F2FE50A05E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74F8-C07B-4D73-8845-1CB0DA0138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5696-5B91-4D4D-94D6-DBF6E9F094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AC3A-DA83-4042-96E5-22BC4CCC09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51F4-5D84-4AC4-BE8B-8926AAA5B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60C9-47DD-4ECA-AAD2-3B29216943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C2DA-8E4F-4472-AFF2-8A1B908D38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F236-49A6-4867-B6FB-72AF9860B2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A91C-7171-465C-BC93-AB41079516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283C-FAA1-45F8-B164-A53C7CC275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15240" cy="125748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81" descr=""/>
          <p:cNvPicPr/>
          <p:nvPr/>
        </p:nvPicPr>
        <p:blipFill>
          <a:blip r:embed="rId2"/>
          <a:stretch/>
        </p:blipFill>
        <p:spPr>
          <a:xfrm>
            <a:off x="985680" y="3090960"/>
            <a:ext cx="71726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79873" descr=""/>
          <p:cNvPicPr/>
          <p:nvPr/>
        </p:nvPicPr>
        <p:blipFill>
          <a:blip r:embed="rId1"/>
          <a:stretch/>
        </p:blipFill>
        <p:spPr>
          <a:xfrm>
            <a:off x="539640" y="792000"/>
            <a:ext cx="7981920" cy="138132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79874" descr=""/>
          <p:cNvPicPr/>
          <p:nvPr/>
        </p:nvPicPr>
        <p:blipFill>
          <a:blip r:embed="rId2"/>
          <a:stretch/>
        </p:blipFill>
        <p:spPr>
          <a:xfrm>
            <a:off x="1044720" y="2314440"/>
            <a:ext cx="7505640" cy="4086360"/>
          </a:xfrm>
          <a:prstGeom prst="rect">
            <a:avLst/>
          </a:prstGeom>
          <a:ln w="0">
            <a:noFill/>
          </a:ln>
        </p:spPr>
      </p:pic>
      <p:sp>
        <p:nvSpPr>
          <p:cNvPr id="1062" name="矩形 79875"/>
          <p:cNvSpPr/>
          <p:nvPr/>
        </p:nvSpPr>
        <p:spPr>
          <a:xfrm>
            <a:off x="7812000" y="765000"/>
            <a:ext cx="405000" cy="3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89089" descr=""/>
          <p:cNvPicPr/>
          <p:nvPr/>
        </p:nvPicPr>
        <p:blipFill>
          <a:blip r:embed="rId1"/>
          <a:stretch/>
        </p:blipFill>
        <p:spPr>
          <a:xfrm>
            <a:off x="561960" y="1390680"/>
            <a:ext cx="8020080" cy="4076640"/>
          </a:xfrm>
          <a:prstGeom prst="rect">
            <a:avLst/>
          </a:prstGeom>
          <a:ln w="0">
            <a:noFill/>
          </a:ln>
        </p:spPr>
      </p:pic>
      <p:sp>
        <p:nvSpPr>
          <p:cNvPr id="1064" name="矩形 89090"/>
          <p:cNvSpPr/>
          <p:nvPr/>
        </p:nvSpPr>
        <p:spPr>
          <a:xfrm>
            <a:off x="2876400" y="1859040"/>
            <a:ext cx="40500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89091"/>
          <p:cNvSpPr/>
          <p:nvPr/>
        </p:nvSpPr>
        <p:spPr>
          <a:xfrm>
            <a:off x="6697800" y="1881360"/>
            <a:ext cx="7538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90113" descr=""/>
          <p:cNvPicPr/>
          <p:nvPr/>
        </p:nvPicPr>
        <p:blipFill>
          <a:blip r:embed="rId1"/>
          <a:stretch/>
        </p:blipFill>
        <p:spPr>
          <a:xfrm>
            <a:off x="566640" y="957240"/>
            <a:ext cx="8010720" cy="4943520"/>
          </a:xfrm>
          <a:prstGeom prst="rect">
            <a:avLst/>
          </a:prstGeom>
          <a:ln w="0">
            <a:noFill/>
          </a:ln>
        </p:spPr>
      </p:pic>
      <p:sp>
        <p:nvSpPr>
          <p:cNvPr id="1067" name="矩形 90114"/>
          <p:cNvSpPr/>
          <p:nvPr/>
        </p:nvSpPr>
        <p:spPr>
          <a:xfrm>
            <a:off x="2843280" y="2349360"/>
            <a:ext cx="792000" cy="3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90115"/>
          <p:cNvSpPr/>
          <p:nvPr/>
        </p:nvSpPr>
        <p:spPr>
          <a:xfrm>
            <a:off x="5815080" y="2827440"/>
            <a:ext cx="106200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91137" descr=""/>
          <p:cNvPicPr/>
          <p:nvPr/>
        </p:nvPicPr>
        <p:blipFill>
          <a:blip r:embed="rId1"/>
          <a:stretch/>
        </p:blipFill>
        <p:spPr>
          <a:xfrm>
            <a:off x="538200" y="709560"/>
            <a:ext cx="8067600" cy="5438880"/>
          </a:xfrm>
          <a:prstGeom prst="rect">
            <a:avLst/>
          </a:prstGeom>
          <a:ln w="0">
            <a:noFill/>
          </a:ln>
        </p:spPr>
      </p:pic>
      <p:sp>
        <p:nvSpPr>
          <p:cNvPr id="1070" name="矩形 91138"/>
          <p:cNvSpPr/>
          <p:nvPr/>
        </p:nvSpPr>
        <p:spPr>
          <a:xfrm>
            <a:off x="5076720" y="4437000"/>
            <a:ext cx="8636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91139"/>
          <p:cNvSpPr/>
          <p:nvPr/>
        </p:nvSpPr>
        <p:spPr>
          <a:xfrm>
            <a:off x="4402080" y="4883040"/>
            <a:ext cx="1249560" cy="3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91140"/>
          <p:cNvSpPr/>
          <p:nvPr/>
        </p:nvSpPr>
        <p:spPr>
          <a:xfrm>
            <a:off x="4151160" y="5351400"/>
            <a:ext cx="2941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92161" descr=""/>
          <p:cNvPicPr/>
          <p:nvPr/>
        </p:nvPicPr>
        <p:blipFill>
          <a:blip r:embed="rId1"/>
          <a:stretch/>
        </p:blipFill>
        <p:spPr>
          <a:xfrm>
            <a:off x="523800" y="1343160"/>
            <a:ext cx="8096400" cy="4171680"/>
          </a:xfrm>
          <a:prstGeom prst="rect">
            <a:avLst/>
          </a:prstGeom>
          <a:ln w="0">
            <a:noFill/>
          </a:ln>
        </p:spPr>
      </p:pic>
      <p:sp>
        <p:nvSpPr>
          <p:cNvPr id="1074" name="矩形 92162"/>
          <p:cNvSpPr/>
          <p:nvPr/>
        </p:nvSpPr>
        <p:spPr>
          <a:xfrm>
            <a:off x="7740720" y="3716280"/>
            <a:ext cx="4046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8806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20040" cy="4771800"/>
          </a:xfrm>
          <a:prstGeom prst="rect">
            <a:avLst/>
          </a:prstGeom>
          <a:ln w="0">
            <a:noFill/>
          </a:ln>
        </p:spPr>
      </p:pic>
      <p:sp>
        <p:nvSpPr>
          <p:cNvPr id="1025" name="矩形 88102"/>
          <p:cNvSpPr/>
          <p:nvPr/>
        </p:nvSpPr>
        <p:spPr>
          <a:xfrm>
            <a:off x="4859280" y="1844640"/>
            <a:ext cx="731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108"/>
          <p:cNvSpPr/>
          <p:nvPr/>
        </p:nvSpPr>
        <p:spPr>
          <a:xfrm>
            <a:off x="7380360" y="1844640"/>
            <a:ext cx="143964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109"/>
          <p:cNvSpPr/>
          <p:nvPr/>
        </p:nvSpPr>
        <p:spPr>
          <a:xfrm>
            <a:off x="755640" y="2205000"/>
            <a:ext cx="13683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112"/>
          <p:cNvSpPr/>
          <p:nvPr/>
        </p:nvSpPr>
        <p:spPr>
          <a:xfrm>
            <a:off x="4932360" y="2205000"/>
            <a:ext cx="79200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113"/>
          <p:cNvSpPr/>
          <p:nvPr/>
        </p:nvSpPr>
        <p:spPr>
          <a:xfrm>
            <a:off x="5867280" y="2565360"/>
            <a:ext cx="12258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114"/>
          <p:cNvSpPr/>
          <p:nvPr/>
        </p:nvSpPr>
        <p:spPr>
          <a:xfrm>
            <a:off x="7596360" y="2565360"/>
            <a:ext cx="7315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115"/>
          <p:cNvSpPr/>
          <p:nvPr/>
        </p:nvSpPr>
        <p:spPr>
          <a:xfrm>
            <a:off x="1046160" y="2965320"/>
            <a:ext cx="731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116"/>
          <p:cNvSpPr/>
          <p:nvPr/>
        </p:nvSpPr>
        <p:spPr>
          <a:xfrm>
            <a:off x="3732120" y="3317760"/>
            <a:ext cx="731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8117"/>
          <p:cNvSpPr/>
          <p:nvPr/>
        </p:nvSpPr>
        <p:spPr>
          <a:xfrm>
            <a:off x="7047000" y="3317760"/>
            <a:ext cx="731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8118"/>
          <p:cNvSpPr/>
          <p:nvPr/>
        </p:nvSpPr>
        <p:spPr>
          <a:xfrm>
            <a:off x="3751200" y="3679920"/>
            <a:ext cx="731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8119"/>
          <p:cNvSpPr/>
          <p:nvPr/>
        </p:nvSpPr>
        <p:spPr>
          <a:xfrm>
            <a:off x="5065560" y="3699000"/>
            <a:ext cx="731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88120"/>
          <p:cNvSpPr/>
          <p:nvPr/>
        </p:nvSpPr>
        <p:spPr>
          <a:xfrm>
            <a:off x="4716360" y="4076640"/>
            <a:ext cx="86364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8121"/>
          <p:cNvSpPr/>
          <p:nvPr/>
        </p:nvSpPr>
        <p:spPr>
          <a:xfrm>
            <a:off x="7304040" y="4060800"/>
            <a:ext cx="9399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8122"/>
          <p:cNvSpPr/>
          <p:nvPr/>
        </p:nvSpPr>
        <p:spPr>
          <a:xfrm>
            <a:off x="3532320" y="4432320"/>
            <a:ext cx="731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88123"/>
          <p:cNvSpPr/>
          <p:nvPr/>
        </p:nvSpPr>
        <p:spPr>
          <a:xfrm>
            <a:off x="950760" y="4813200"/>
            <a:ext cx="731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8124"/>
          <p:cNvSpPr/>
          <p:nvPr/>
        </p:nvSpPr>
        <p:spPr>
          <a:xfrm>
            <a:off x="3348000" y="5157720"/>
            <a:ext cx="73188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8125"/>
          <p:cNvSpPr/>
          <p:nvPr/>
        </p:nvSpPr>
        <p:spPr>
          <a:xfrm>
            <a:off x="6894360" y="5175360"/>
            <a:ext cx="91764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87041" descr=""/>
          <p:cNvPicPr/>
          <p:nvPr/>
        </p:nvPicPr>
        <p:blipFill>
          <a:blip r:embed="rId1"/>
          <a:stretch/>
        </p:blipFill>
        <p:spPr>
          <a:xfrm>
            <a:off x="328680" y="909720"/>
            <a:ext cx="8486640" cy="5038560"/>
          </a:xfrm>
          <a:prstGeom prst="rect">
            <a:avLst/>
          </a:prstGeom>
          <a:ln w="0">
            <a:noFill/>
          </a:ln>
        </p:spPr>
      </p:pic>
      <p:sp>
        <p:nvSpPr>
          <p:cNvPr id="1043" name="矩形 87042"/>
          <p:cNvSpPr/>
          <p:nvPr/>
        </p:nvSpPr>
        <p:spPr>
          <a:xfrm>
            <a:off x="8156520" y="2141640"/>
            <a:ext cx="405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043"/>
          <p:cNvSpPr/>
          <p:nvPr/>
        </p:nvSpPr>
        <p:spPr>
          <a:xfrm>
            <a:off x="4836960" y="3816360"/>
            <a:ext cx="5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7044"/>
          <p:cNvSpPr/>
          <p:nvPr/>
        </p:nvSpPr>
        <p:spPr>
          <a:xfrm>
            <a:off x="8145360" y="3817800"/>
            <a:ext cx="506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86017" descr=""/>
          <p:cNvPicPr/>
          <p:nvPr/>
        </p:nvPicPr>
        <p:blipFill>
          <a:blip r:embed="rId1"/>
          <a:stretch/>
        </p:blipFill>
        <p:spPr>
          <a:xfrm>
            <a:off x="361800" y="781200"/>
            <a:ext cx="8420400" cy="5295600"/>
          </a:xfrm>
          <a:prstGeom prst="rect">
            <a:avLst/>
          </a:prstGeom>
          <a:ln w="0">
            <a:noFill/>
          </a:ln>
        </p:spPr>
      </p:pic>
      <p:sp>
        <p:nvSpPr>
          <p:cNvPr id="1047" name="矩形 86018"/>
          <p:cNvSpPr/>
          <p:nvPr/>
        </p:nvSpPr>
        <p:spPr>
          <a:xfrm>
            <a:off x="8188200" y="1238400"/>
            <a:ext cx="34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86019"/>
          <p:cNvSpPr/>
          <p:nvPr/>
        </p:nvSpPr>
        <p:spPr>
          <a:xfrm>
            <a:off x="3921120" y="3468600"/>
            <a:ext cx="938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6020"/>
          <p:cNvSpPr/>
          <p:nvPr/>
        </p:nvSpPr>
        <p:spPr>
          <a:xfrm>
            <a:off x="5848200" y="3468600"/>
            <a:ext cx="668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84993" descr=""/>
          <p:cNvPicPr/>
          <p:nvPr/>
        </p:nvPicPr>
        <p:blipFill>
          <a:blip r:embed="rId1"/>
          <a:stretch/>
        </p:blipFill>
        <p:spPr>
          <a:xfrm>
            <a:off x="571680" y="1900080"/>
            <a:ext cx="8001000" cy="3057840"/>
          </a:xfrm>
          <a:prstGeom prst="rect">
            <a:avLst/>
          </a:prstGeom>
          <a:ln w="0">
            <a:noFill/>
          </a:ln>
        </p:spPr>
      </p:pic>
      <p:sp>
        <p:nvSpPr>
          <p:cNvPr id="1051" name="矩形 84994"/>
          <p:cNvSpPr/>
          <p:nvPr/>
        </p:nvSpPr>
        <p:spPr>
          <a:xfrm>
            <a:off x="7818480" y="2600280"/>
            <a:ext cx="476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8396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39160" cy="5793120"/>
          </a:xfrm>
          <a:prstGeom prst="rect">
            <a:avLst/>
          </a:prstGeom>
          <a:ln w="0">
            <a:noFill/>
          </a:ln>
        </p:spPr>
      </p:pic>
      <p:sp>
        <p:nvSpPr>
          <p:cNvPr id="1053" name="矩形 83970"/>
          <p:cNvSpPr/>
          <p:nvPr/>
        </p:nvSpPr>
        <p:spPr>
          <a:xfrm>
            <a:off x="7775640" y="4254480"/>
            <a:ext cx="476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82945" descr=""/>
          <p:cNvPicPr/>
          <p:nvPr/>
        </p:nvPicPr>
        <p:blipFill>
          <a:blip r:embed="rId1"/>
          <a:stretch/>
        </p:blipFill>
        <p:spPr>
          <a:xfrm>
            <a:off x="561960" y="1409760"/>
            <a:ext cx="8020080" cy="4038480"/>
          </a:xfrm>
          <a:prstGeom prst="rect">
            <a:avLst/>
          </a:prstGeom>
          <a:ln w="0">
            <a:noFill/>
          </a:ln>
        </p:spPr>
      </p:pic>
      <p:sp>
        <p:nvSpPr>
          <p:cNvPr id="1055" name="矩形 82946"/>
          <p:cNvSpPr/>
          <p:nvPr/>
        </p:nvSpPr>
        <p:spPr>
          <a:xfrm>
            <a:off x="7740720" y="4437000"/>
            <a:ext cx="431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8192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58240" cy="5867640"/>
          </a:xfrm>
          <a:prstGeom prst="rect">
            <a:avLst/>
          </a:prstGeom>
          <a:ln w="0">
            <a:noFill/>
          </a:ln>
        </p:spPr>
      </p:pic>
      <p:sp>
        <p:nvSpPr>
          <p:cNvPr id="1057" name="矩形 81922"/>
          <p:cNvSpPr/>
          <p:nvPr/>
        </p:nvSpPr>
        <p:spPr>
          <a:xfrm>
            <a:off x="7818480" y="2316240"/>
            <a:ext cx="476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80897" descr=""/>
          <p:cNvPicPr/>
          <p:nvPr/>
        </p:nvPicPr>
        <p:blipFill>
          <a:blip r:embed="rId1"/>
          <a:stretch/>
        </p:blipFill>
        <p:spPr>
          <a:xfrm>
            <a:off x="528480" y="1938240"/>
            <a:ext cx="8087040" cy="2981520"/>
          </a:xfrm>
          <a:prstGeom prst="rect">
            <a:avLst/>
          </a:prstGeom>
          <a:ln w="0">
            <a:noFill/>
          </a:ln>
        </p:spPr>
      </p:pic>
      <p:sp>
        <p:nvSpPr>
          <p:cNvPr id="1059" name="矩形 80898"/>
          <p:cNvSpPr/>
          <p:nvPr/>
        </p:nvSpPr>
        <p:spPr>
          <a:xfrm>
            <a:off x="7818480" y="3514680"/>
            <a:ext cx="4046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22:01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